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C07-D469-4282-B9C8-45A3D01C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996-9172-4AC5-95C1-62CD7DAE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BF4-FFBC-4A6F-809A-320E5BA0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99C-9502-4C74-8A99-4366C4B6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B60D-E7B5-425C-92BA-1E23C86B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F3A-6EA4-4B8D-AACA-922B63F8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71A-2185-4095-A378-BDA78342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4B02-372C-481C-91F7-FFB39AC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AC3F-88AF-42CB-9D3C-B7D76883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56D9-715A-42F5-B066-0B79C10B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0BC6-DB5C-47D5-ABE3-97919F9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F4B-E843-4F41-A990-7DCF9C28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49F-82CD-44F8-A0C0-9D60FAC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6683-7A3E-42AC-9ED5-6F5EFABF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2A86-8F92-493E-A03D-63C64030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DCBD-EDD3-4CDC-B3B8-5BF5A804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6AA5-4B34-478E-8E4A-7D8F3BBD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719-4C64-4B55-B5B8-E2227DAD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A5F-7689-46A8-AAA1-D33429D7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B4E-22CE-4330-9191-134F4F21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D54-96ED-4E81-B65E-CA320FC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FE2-0F85-45E7-B676-691BAEA6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2B6-1FA5-42C8-A55A-308C9110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C44-B5B0-419D-A6EA-62A814B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79F-1C87-4A5A-ACB5-11380101D3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670B-B757-4636-BBA4-BBE9340A08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116E1252-3007-4DBE-989C-CAA38FB6388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28760" y="1357200"/>
            <a:ext cx="52149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s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 - 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 - 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 - ε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σ - 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 - 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429080" y="28684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429080" y="349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429080" y="4106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429080" y="4708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429080" y="5232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6:Practice </a:t>
            </a:r>
            <a:fld id="{09E5B63A-9349-47EF-B64A-3635757EA42B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κυνου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τ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ηρ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χαρι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ᾠκοδομησα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ill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102280" y="318456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ere wor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ee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102280" y="520704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ga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D442168A-7D52-4934-A320-212C8497B3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28760" y="1417680"/>
            <a:ext cx="764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Greek tenses are correct for the followi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used to 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are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429080" y="2813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429080" y="3346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429080" y="3902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429080" y="4449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429080" y="5013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A3FA0115-BE6D-4547-89F2-07A8EB7860B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2876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ζο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429080" y="2271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42908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429080" y="351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s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41022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bap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429080" y="4737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bel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429080" y="5369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C7A3775B-F927-46C4-8D32-C360CB5CE8F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00040" y="1228680"/>
            <a:ext cx="4857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υσα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ευ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er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60840" y="204300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ere th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57600" y="2511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unt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57600" y="2970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ill 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57600" y="343224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sing.) are throwing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57600" y="38750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bel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57600" y="43275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se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560840" y="4759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554360" y="5218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4557600" y="56815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μβαν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B89E60FC-1CAA-478E-A3C0-E877C9863D0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7120" y="1357200"/>
            <a:ext cx="521496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εν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ἀκουσει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ἁγιοι ἐχουσιν τ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ομεν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α τον λογον ἐπιστευσα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714920" y="2259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as teaching the cro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71492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will hear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14920" y="34974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ones have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714920" y="4089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unti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714920" y="47372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you believe because of the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714920" y="54943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peaking about the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64760" y="5322960"/>
            <a:ext cx="389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περι της βασιλει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234B54B2-E83F-4F5C-A28F-89F4DADCD50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190520"/>
            <a:ext cx="43578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ως ἀπολυσεις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δελφοι οὐκ ἐπιστευ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used to tak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elieved th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master will set free 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used to speak but now I will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14920" y="2098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ill you divorce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14920" y="27036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s did not bel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14920" y="325908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ομεν το πλο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714920" y="378612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714920" y="437976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ος κυριος ἀπολυσει τους 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4714920" y="545940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ἀλλα νυν ἀκου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303E7E7D-00FA-4F74-B137-F389F1D318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Imperfec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η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ελαμβαν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π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-112680" y="2412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 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B5703AAE-A5A6-4EBA-AEA2-878C6C6F7A6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Aoris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ζ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π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κο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λ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οξα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ALING WITH THE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183F21A3-C335-4BEC-A623-DE61B4F37D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ense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ραζ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ω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ραψ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χ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ι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102280" y="3184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102280" y="5207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3:21:07Z</dcterms:created>
  <dc:creator>Sarah</dc:creator>
  <dc:description/>
  <dc:language>en-US</dc:language>
  <cp:lastModifiedBy>Sarah</cp:lastModifiedBy>
  <dcterms:modified xsi:type="dcterms:W3CDTF">2008-09-07T14:35:32Z</dcterms:modified>
  <cp:revision>44</cp:revision>
  <dc:subject/>
  <dc:title>Slide 1</dc:title>
</cp:coreProperties>
</file>